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672-603C-4C97-A5C8-7816090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9C6-ADBF-4E31-BB87-E473FB1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356-1C5C-4C22-867E-888D5FFB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13A-D56C-49F7-B83F-F5D79A1D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9DB-9961-44C0-A58A-6CDD24CC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8358-3CF8-40FE-AE70-08ED307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4FBB-DF7A-4F8D-B89F-28E2071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7EF4-B5CE-4CD3-84C5-9E8CF7CD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98E1-5F6A-4DE4-B563-1BE76C89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C4E-1961-4A19-A495-CB61B7C0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4119-0FF0-4713-B9E4-AAEC6FE7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A2F-9ACF-4F17-8225-D88F14F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F9FA-5A3C-4BE9-8F65-807C776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2604-80E3-47D8-84FA-785B58D7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B4A9-6D19-4B0A-82EC-62934872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7198-72CA-4CE8-A90D-29366177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4B72-C474-4031-A626-D9EF7BDD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3B2-ED60-41D2-BE15-631BBB3C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0EF-705A-49DE-BE7C-F608FC5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D1C-4EF2-4C81-B0E0-90248734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705-FB21-47E4-9121-81D778D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4FF-4C07-46D5-BD73-4E2207F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1E5-0234-4B19-9435-50F7B48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2ED-5604-481C-BE10-5FA5A3AC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6666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35B-4C2D-4E56-9007-D00AB647CC7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030-EE89-4E2E-B648-B079D84DD2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F20-89B7-4014-9548-61A47666C29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27CA-9F38-4862-B658-56C593052F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ndy"/>
              </a:rPr>
              <a:t>Maslow vs. Will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ndy"/>
              </a:rPr>
              <a:t>Pyramid Schema</a:t>
            </a:r>
            <a:endParaRPr b="1" lang="en-US" sz="50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Eric Willard, CTO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ndy"/>
              </a:rPr>
              <a:t>January 23, 2009</a:t>
            </a:r>
            <a:endParaRPr b="0" lang="en-US" sz="25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EAA-C446-4D14-9C9D-D941F5B0207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BF8-4567-4ACA-89BA-9229AF2828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3352680" y="3657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 rot="18418800">
            <a:off x="488880" y="3394800"/>
            <a:ext cx="4062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3809880" y="28954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Technology Drivers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Instructional Initiative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Administrative Need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echnology Plan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B942-67D3-48B2-9B1A-CB01755969E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CFF-DF64-40E7-ABC2-7CF52A0A06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dy"/>
              </a:rPr>
              <a:t>When Technology Drives Instruction</a:t>
            </a:r>
            <a:endParaRPr b="1" lang="en-US" sz="4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a district lacks the driver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the infrastructure isn’t read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LAN/WAN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teachers aren’t technology literate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ABD4-FB4D-49C4-8FFC-C49E9F711FD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009D-D26E-4A87-A70B-8BE7B7BF2A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Maslow’s Pyramid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pic>
        <p:nvPicPr>
          <p:cNvPr id="98" name="Picture 4" descr="maslow 1"/>
          <p:cNvPicPr/>
          <p:nvPr/>
        </p:nvPicPr>
        <p:blipFill>
          <a:blip r:embed="rId1"/>
          <a:stretch/>
        </p:blipFill>
        <p:spPr>
          <a:xfrm>
            <a:off x="1828800" y="1981080"/>
            <a:ext cx="54007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6A7-DE74-45FD-82E0-0E9B213087B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1238-C95A-4AB9-94C1-02A0812936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Don’t Let this Happen!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03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A81-BFCD-4D78-A403-0B3B19015B2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97F-0748-4294-AC67-5A68AF07DF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81E-E37D-4AAA-8DC5-9BB55C603A0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129-ECAF-49D0-B385-30F878FA71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5B53-3636-4E38-8705-616A87A2074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1D3-4EF1-4962-99C9-3E3FC9C3CE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44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53E-170A-4BB8-A485-0C6E34B518C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B05-7401-4DA7-BCF6-210DC3DB0E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59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352680" y="3657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BHS</cp:lastModifiedBy>
  <dcterms:modified xsi:type="dcterms:W3CDTF">2010-06-25T18:59:40Z</dcterms:modified>
  <cp:revision>18</cp:revision>
  <dc:subject/>
  <dc:title>Beveled Slide Style</dc:title>
</cp:coreProperties>
</file>